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774-2A63-469A-A354-5AD3A6EC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4BD-E993-47DC-88A3-3AB253AB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991-E736-42BF-8313-7CD8BEDE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96FE-282C-4F07-8E97-1897E5ED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AAF-B72C-4FA9-B61C-66CFBAF6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08AB-FE8E-4A7D-BE5C-65B72D4B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429-796A-4276-965E-3F0BC527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F010-C0BB-4EF2-9E83-7BC255FA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0D71-1C36-4DC8-A84E-284040CB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F2E-F7CE-472C-BB63-69920626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9D8-AC8E-46F2-BB3C-74D199F4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2B0E-B38D-48C0-8D74-0D209B6C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6241-F288-46E0-829B-FC4563C14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Projektarbeit Internetfilm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„Internet und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Virtuelle Gesellschaft“ </a:t>
            </a:r>
            <a:br>
              <a:rPr sz="44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S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0477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ruppe 6:</a:t>
            </a:r>
            <a:br>
              <a:rPr sz="32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ferenten: Peter Pfeffer, Christian Stein und Andreas Görl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3657600"/>
            <a:ext cx="7010640" cy="1066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sflut 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elle Gemeinschaft (soziale Aspekt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a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sfl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len über das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e und Grü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elle Gemeinschaft (soziale Aspek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(nach Rheingo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n der Kommunik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or- und Nachte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467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sfl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236196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eschätzte Zahl der Benutzer von Online-Dienste: 12 M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eschätzte Zahl der WWW - Seiten: 8.780.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nzahl der Internet - Hosts: 1969:             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995: 6.642.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nzahl der WWW - Hosts: Juni 1993:      130   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                                September 1995: 29.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aktor, um den das Internet 1993 gewachsen ist: 1,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aktor, um den das Internet 1994 gewachsen ist: 2,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5238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ahlenwerte aus der Zeitschrift "Pl@net" 11/9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ptome und Grü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ät statt Qualitä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in „Bibliothekar(in)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maschinen ohne Semant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 (nach Rheingold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8284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irtuelle Gemeinschaften sind soziale Zusammen-schlüsse, die dann im Netz entstehen, wenn genug Leute diese öffentliche Kommunikation lange genug führen und dabei ihre Gefühle einbringen, so daß im Cyberspace ein Geflecht persönlicher Beziehungen entsteht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yberspace=Virtueller Ra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en der Kommunik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orlds Away (3D-We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191120"/>
            <a:ext cx="761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uptsächlich handelt sich dabei um Symbolfol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rte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örperlos (mehr Freihe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eine Vorurteile bezügli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a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eschle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se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chte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nesver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nymität (Lügen leicht gemach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ngeschränkte Möglichkeiten durch „Schnittstellen“ zur Mas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ühl, A.: "Cyber Society", Köln 199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toll, C.: "Die Wüste Internet", New York 199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heingold, H.: "Virtuelle Gemeinschaft", Bonn 9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ostman, N.: "Das Technopol", Frankfurt 199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piegel Spezial 3/9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piegel Spezial 3/9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"Pl@net" Internetmagazin 11/9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formatik Spektrum 19/2 199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0T15:25:40Z</dcterms:created>
  <dc:creator>Christian Stein</dc:creator>
  <dc:description/>
  <dc:language>en-US</dc:language>
  <cp:lastModifiedBy>Christian Stein</cp:lastModifiedBy>
  <dcterms:modified xsi:type="dcterms:W3CDTF">1998-05-01T17:29:18Z</dcterms:modified>
  <cp:revision>2</cp:revision>
  <dc:subject/>
  <dc:title>Projektarbeit Internetfilm „Internet und  Virtuelle Gesellschaft“  SS 1997</dc:title>
</cp:coreProperties>
</file>