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gif" ContentType="image/gif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9B0F-3118-4A8A-944F-FA8D7104F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ED916-1925-44E0-B3B1-4B9F3176D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D1691-3831-4963-B757-2686030E3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5624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2056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228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5624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2056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4804-3D3C-4510-836D-534910AD1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9C42-83F4-45B7-8E73-D3FC3C7481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5651-7E2B-4EE6-8275-8715BBF6DD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2310-40FE-415C-9B09-E9682A9FB0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FA093-2884-4546-95CB-F55093C314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B4DAC-3517-4F1A-9CCA-DDD7E78E06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4000" y="2069640"/>
            <a:ext cx="80643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971B-5C64-4289-A3CD-043A00BDA9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5FB2-B4A1-4EE2-8A2E-D95EB07D5E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FCFE-B2E7-4994-88B6-BA2454BA5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27278-67F1-4F5A-A42F-46E9968206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A98CE-634F-4685-A5E7-793FA9E707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00C65-3FFB-4CBF-A63A-FEEB4CEEE4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D72F-5836-463F-9AF2-B9E371D475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5624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2056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9228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5624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02056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3D2D-EE29-4A20-8803-54C392E728E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147D3-BDEF-4271-8409-ADD4F1A2F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8D443-ABB1-4FD0-AFBD-5A01ED54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B70A9-3A4E-473E-B688-59FA5B07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8E91B-25B7-49B1-B9B1-EAF6E760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3DF0B-9B4C-4511-A127-0D6D5B17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FB37-D4F7-4B57-89B8-028CA1BD04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4000" y="2069640"/>
            <a:ext cx="80643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1833A-56EF-4EE7-BD24-A0D292CD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B287E-A613-46B0-82B2-D86D5A8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DDFAE-6733-44C4-9DEF-693B7E21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67B8E-1AB6-478E-9B1D-CAFE7CE7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A82AE0-DBF5-48F9-948B-CF6D4F32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AA84C-07C7-4AF2-9571-7C775160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285624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2056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9228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285624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02056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FAAA4-2998-4D94-843D-0E233925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DF16-BE10-4938-8DE3-D7E965C558C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4000" y="2069640"/>
            <a:ext cx="80643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285624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2056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9228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285624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02056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1346-4AF8-4543-98B3-D366299BC6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AB46-B506-4518-81D1-D7B15C92FB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B264-2EEA-416D-BBF5-99C4FCDBEB2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C9FB-0E2E-42FC-B1C6-71EF79842A6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AA18-75BC-4B8E-A66A-F707137FA03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5A13-E9D8-4C16-A5C3-987047A1BE6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4000" y="2069640"/>
            <a:ext cx="80643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5C8C1-E8B4-46F9-AD22-FCF116A8CAA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97466-EBEF-4954-9DC7-97DF4E4807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9C6F-D13C-4658-9CD0-80BAF738C73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0781-5085-41D6-8D4F-D1ACA484D6E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AAB9-325B-4BE0-9BAE-63E7CA9DD0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8B16-F481-44CC-97FC-5B278FF5F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4000" y="2069640"/>
            <a:ext cx="80643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A686-010D-47DC-A05C-AE19D06859C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85624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20560" y="342864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9228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85624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020560" y="4025880"/>
            <a:ext cx="206064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A298-5630-4563-93D0-BC32441AFA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09535-BE62-4B23-A1E9-70CBE0EB03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72240" y="402588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200A-C9ED-419C-A01B-D5C0D1750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228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72240" y="3428640"/>
            <a:ext cx="312336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2280" y="4025880"/>
            <a:ext cx="6400800" cy="5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A1A7-82F3-4D54-86C0-282C02BA69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9400" y="196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218960"/>
            <a:ext cx="80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920" y="6603480"/>
            <a:ext cx="914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3254-6827-4C7D-9A6B-58A1F116E84B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7480" y="6585120"/>
            <a:ext cx="748476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9685" t="0" r="0" b="25025"/>
          <a:stretch/>
        </p:blipFill>
        <p:spPr>
          <a:xfrm>
            <a:off x="7164360" y="5808600"/>
            <a:ext cx="1941480" cy="1019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03280" y="907920"/>
            <a:ext cx="6596280" cy="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60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50760" y="659088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C12F-0F2A-4C6D-8322-2BE43014B274}" type="slidenum">
              <a:rPr b="1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1800" y="3479760"/>
            <a:ext cx="7953120" cy="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9685" t="0" r="0" b="25025"/>
          <a:stretch/>
        </p:blipFill>
        <p:spPr>
          <a:xfrm>
            <a:off x="84240" y="133200"/>
            <a:ext cx="3119400" cy="164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D8A7-841E-4E94-8578-0211DD514A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1692360" cy="1222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126200" y="5661000"/>
            <a:ext cx="1982880" cy="11192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99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8080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981000"/>
            <a:ext cx="6705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629400"/>
            <a:ext cx="83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7E10-32FB-46CA-99F7-53CA5094A5AB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08000" y="217440"/>
            <a:ext cx="2627280" cy="14828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ldNum" idx="6"/>
          </p:nvPr>
        </p:nvSpPr>
        <p:spPr>
          <a:xfrm>
            <a:off x="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F762-1591-4995-81C6-42451A86EE2B}" type="slidenum">
              <a:rPr b="1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3276720"/>
            <a:ext cx="81536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948360" y="5300640"/>
            <a:ext cx="2124360" cy="15336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ff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80808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4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2069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Black"/>
              </a:rPr>
              <a:t>Sortierbasierte Joins</a:t>
            </a:r>
            <a:br>
              <a:rPr sz="2800"/>
            </a:br>
            <a:r>
              <a:rPr b="0" lang="de-DE" sz="2800" spc="-1" strike="noStrike">
                <a:solidFill>
                  <a:srgbClr val="3333cc"/>
                </a:solidFill>
                <a:latin typeface="Arial Black"/>
              </a:rPr>
              <a:t>über Datenström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92000" y="3530160"/>
            <a:ext cx="7739280" cy="23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Michael Cammert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, Christoph Heinz,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Jürgen Krämer, Bernhard See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hilipps-Universität Marbu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TW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23840" y="6229440"/>
            <a:ext cx="5391000" cy="9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se Arbeit wurde von der DFG unter Projektnummer Se 553/4-1 geförder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132000" y="4419720"/>
            <a:ext cx="0" cy="1979640"/>
          </a:xfrm>
          <a:prstGeom prst="line">
            <a:avLst/>
          </a:prstGeom>
          <a:ln w="38160">
            <a:solidFill>
              <a:srgbClr val="b2b2b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71640" y="4510080"/>
            <a:ext cx="1439640" cy="1798560"/>
            <a:chOff x="971640" y="4510080"/>
            <a:chExt cx="1439640" cy="1798560"/>
          </a:xfrm>
        </p:grpSpPr>
        <p:sp>
          <p:nvSpPr>
            <p:cNvPr id="370" name=""/>
            <p:cNvSpPr/>
            <p:nvPr/>
          </p:nvSpPr>
          <p:spPr>
            <a:xfrm>
              <a:off x="971640" y="4510080"/>
              <a:ext cx="1439640" cy="71928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71640" y="5589720"/>
              <a:ext cx="1439640" cy="71892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auptspeicheralgorihmu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ströme lexikographisch sortiert nach Gültigkeitsinterval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okal sortiertes Eintreffen je Str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getriebene Verarbeit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ynchronisation am Einga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usgabe muss Ordnungsbedingung genüg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rgebnisse nach Startzeitstempel sortiert generie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ufferung und zusätzliche Sortierung nach Endzeitstempel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ternativer Algorithmus verarbeitet direkt und synchronisiert Ergebnis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102360" y="568008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7,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81640" y="568008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6,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662360" y="5680080"/>
            <a:ext cx="54000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3,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41640" y="5680080"/>
            <a:ext cx="54000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1,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02360" y="4599000"/>
            <a:ext cx="53964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8,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81640" y="4599000"/>
            <a:ext cx="53964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6,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62360" y="4599000"/>
            <a:ext cx="54000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5,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41640" y="4599000"/>
            <a:ext cx="54000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[2,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30200" y="5138640"/>
            <a:ext cx="0" cy="5414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30200" y="5138640"/>
            <a:ext cx="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330200" y="5138640"/>
            <a:ext cx="72072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599840" y="4869000"/>
            <a:ext cx="181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692360" y="3429000"/>
            <a:ext cx="1079280" cy="539640"/>
            <a:chOff x="1692360" y="3429000"/>
            <a:chExt cx="1079280" cy="539640"/>
          </a:xfrm>
        </p:grpSpPr>
        <p:sp>
          <p:nvSpPr>
            <p:cNvPr id="387" name=""/>
            <p:cNvSpPr/>
            <p:nvPr/>
          </p:nvSpPr>
          <p:spPr>
            <a:xfrm>
              <a:off x="1692360" y="3429000"/>
              <a:ext cx="53964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3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232000" y="3429000"/>
              <a:ext cx="539640" cy="539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132000" y="3429000"/>
            <a:ext cx="1079280" cy="539640"/>
            <a:chOff x="3132000" y="3429000"/>
            <a:chExt cx="1079280" cy="539640"/>
          </a:xfrm>
        </p:grpSpPr>
        <p:sp>
          <p:nvSpPr>
            <p:cNvPr id="390" name=""/>
            <p:cNvSpPr/>
            <p:nvPr/>
          </p:nvSpPr>
          <p:spPr>
            <a:xfrm>
              <a:off x="3132000" y="3429000"/>
              <a:ext cx="53964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[6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71640" y="3429000"/>
              <a:ext cx="539640" cy="539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 flipV="1">
            <a:off x="2050920" y="5138640"/>
            <a:ext cx="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1330200" y="5138640"/>
            <a:ext cx="72072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599840" y="5950080"/>
            <a:ext cx="181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L -0.31493 3.7037E-006 E">
                                      <p:cBhvr>
                                        <p:cTn id="1136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-0.31511 3.7037E-006 E">
                                      <p:cBhvr>
                                        <p:cTn id="1139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6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93 -3.7037E-006 C -0.3724 0.01274 -0.42986 0.0257 -0.43681 -0.00277 C -0.44375 -0.03125 -0.4033 -0.14444 -0.3566 -0.17083 C -0.3099 -0.19722 -0.22899 -0.19814 -0.1566 -0.16111 C -0.0842 -0.12407 -0.0033 -0.03634 0.07778 0.05139 E">
                                      <p:cBhvr>
                                        <p:cTn id="1151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777 0.05139 L -0.00105 -0.00115 E">
                                      <p:cBhvr>
                                        <p:cTn id="1155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51 3.7037E-006 L 2.77778E-007 3.7037E-006 E">
                                      <p:cBhvr>
                                        <p:cTn id="1157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L -0.07864 3.7037E-006 E">
                                      <p:cBhvr>
                                        <p:cTn id="1171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7037E-006 L -0.07882 3.7037E-006 E">
                                      <p:cBhvr>
                                        <p:cTn id="1174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44444E-006 L -0.07865 0.00024 E">
                                      <p:cBhvr>
                                        <p:cTn id="1177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5 0.00023 L -0.31493 0.00023 E">
                                      <p:cBhvr>
                                        <p:cTn id="1180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-0.15747 -3.7037E-006 E">
                                      <p:cBhvr>
                                        <p:cTn id="1183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64 3.7037E-006 L -0.31493 3.7037E-006 E">
                                      <p:cBhvr>
                                        <p:cTn id="1186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7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7882 3.7037E-006 L -0.15746 3.7037E-006 E">
                                      <p:cBhvr>
                                        <p:cTn id="1188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94 0.00024 L -0.54132 -4.44444E-006 E">
                                      <p:cBhvr>
                                        <p:cTn id="1200" dur="20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47 -3.7037E-006 L -0.39375 -3.7037E-006 E">
                                      <p:cBhvr>
                                        <p:cTn id="1203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1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-0.23611 -3.7037E-006 E">
                                      <p:cBhvr>
                                        <p:cTn id="1220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47 2.22222E-006 L -0.31511 -0.00023 E">
                                      <p:cBhvr>
                                        <p:cTn id="1223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3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75 4.81481E-006 L -0.62014 -0.00024 E">
                                      <p:cBhvr>
                                        <p:cTn id="1242" dur="2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93 2.22222E-006 L -0.54132 -0.00023 E">
                                      <p:cBhvr>
                                        <p:cTn id="1244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3151 3.7037E-006 L -0.39375 3.7037E-006 E">
                                      <p:cBhvr>
                                        <p:cTn id="1246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23611 0 E">
                                      <p:cBhvr>
                                        <p:cTn id="1249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11 0 L -0.39375 0 E">
                                      <p:cBhvr>
                                        <p:cTn id="1252" dur="2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33500"/>
                            </p:stCondLst>
                            <p:childTnLst>
                              <p:par>
                                <p:cTn id="1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7037E-006 L -0.31494 3.7037E-006 E">
                                      <p:cBhvr>
                                        <p:cTn id="1255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11 -3.7037E-006 L -0.4724 0.00024 E">
                                      <p:cBhvr>
                                        <p:cTn id="1258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37500"/>
                            </p:stCondLst>
                            <p:childTnLst>
                              <p:par>
                                <p:cTn id="1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9000"/>
                            </p:stCondLst>
                            <p:childTnLst>
                              <p:par>
                                <p:cTn id="1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6 L -0.31493 3.7037E-006 E">
                                      <p:cBhvr>
                                        <p:cTn id="1275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41000"/>
                            </p:stCondLst>
                            <p:childTnLst>
                              <p:par>
                                <p:cTn id="12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93 3.7037E-006 L -0.47256 0.00023 E">
                                      <p:cBhvr>
                                        <p:cTn id="1278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43000"/>
                            </p:stCondLst>
                            <p:childTnLst>
                              <p:par>
                                <p:cTn id="1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9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5000"/>
                            </p:stCondLst>
                            <p:childTnLst>
                              <p:par>
                                <p:cTn id="13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75 0 L -0.69879 0 E">
                                      <p:cBhvr>
                                        <p:cTn id="1304" dur="2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4 0.00024 L -0.69879 -3.7037E-006 E">
                                      <p:cBhvr>
                                        <p:cTn id="1306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75 3.7037E-006 L -0.62014 3.7037E-006 E">
                                      <p:cBhvr>
                                        <p:cTn id="1308" dur="2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47500"/>
                            </p:stCondLst>
                            <p:childTnLst>
                              <p:par>
                                <p:cTn id="1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57 0.00024 L -0.55121 0.00024 E">
                                      <p:cBhvr>
                                        <p:cTn id="1311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49500"/>
                            </p:stCondLst>
                            <p:childTnLst>
                              <p:par>
                                <p:cTn id="13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494 3.7037E-006 L -0.55122 3.7037E-006 E">
                                      <p:cBhvr>
                                        <p:cTn id="1314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321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3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1 0.00023 L -0.7776 3.7037E-006 E">
                                      <p:cBhvr>
                                        <p:cTn id="1326" dur="2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55000"/>
                            </p:stCondLst>
                            <p:childTnLst>
                              <p:par>
                                <p:cTn id="13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2 0.00023 L -0.77761 3.7037E-006 E">
                                      <p:cBhvr>
                                        <p:cTn id="1329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31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8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05903 0.3544 E">
                                      <p:cBhvr>
                                        <p:cTn id="1345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L 0.05903 0.3544 E">
                                      <p:cBhvr>
                                        <p:cTn id="1347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4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3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Sortierbasierte Joins in DB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Datenströ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Probleme bei Adaption von Algorith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Erster Ansat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Zeitfensterseman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Hauptspeicherbasiertes Joinverf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essive-Merge-Jo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aption auf Datenströ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aption auf Zeitfensterseman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gressive-Merge-Joi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rtierung blockiere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Ähnliches Problem: Frühe Ergebnisse beim externen Sort-Merge-Jo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0200" y="3249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Courier New"/>
              </a:rPr>
              <a:t>Sortiere Eingab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80920" y="351936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Courier New"/>
              </a:rPr>
              <a:t>Generiere sortierte Teilfol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20560" y="297828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Courier New"/>
              </a:rPr>
              <a:t>Sortiere Ein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80920" y="4262400"/>
            <a:ext cx="621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Courier New"/>
              </a:rPr>
              <a:t>Verschmilz sortierte Teilfol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0560" y="582300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cc"/>
                </a:solidFill>
                <a:latin typeface="Courier New"/>
              </a:rPr>
              <a:t>Berechne Verbund sortierter Einga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0200" y="450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ff"/>
                </a:solidFill>
                <a:latin typeface="Courier New"/>
              </a:rPr>
              <a:t>Sortiere Eingab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80920" y="4780080"/>
            <a:ext cx="657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Courier New"/>
              </a:rPr>
              <a:t>Generiere sortierte Teilfol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80920" y="5522760"/>
            <a:ext cx="60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66ff"/>
                </a:solidFill>
                <a:latin typeface="Courier New"/>
              </a:rPr>
              <a:t>Verschmilz sortierte Teilfolg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62000" y="3789360"/>
            <a:ext cx="35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ff"/>
                </a:solidFill>
                <a:latin typeface="Courier New"/>
              </a:rPr>
              <a:t>Generiere sortierte Teilfolg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062000" y="4024440"/>
            <a:ext cx="64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ff"/>
                </a:solidFill>
                <a:latin typeface="Courier New"/>
              </a:rPr>
              <a:t>Generiere weitere sortierte Teilfol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2000" y="5049720"/>
            <a:ext cx="35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ff"/>
                </a:solidFill>
                <a:latin typeface="Courier New"/>
              </a:rPr>
              <a:t>Generiere sortierte Teilfolge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62000" y="5319720"/>
            <a:ext cx="64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ff"/>
                </a:solidFill>
                <a:latin typeface="Courier New"/>
              </a:rPr>
              <a:t>Generiere weitere sortierte Teilfol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97560" y="1989000"/>
            <a:ext cx="423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00"/>
                </a:solidFill>
                <a:latin typeface="Courier New"/>
              </a:rPr>
              <a:t>Berechne Verbund sortierter Teilfol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062000" y="4059360"/>
            <a:ext cx="38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ff"/>
                </a:solidFill>
                <a:latin typeface="Courier New"/>
              </a:rPr>
              <a:t>Verschmilz F sortierte Teilfol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2000" y="5319720"/>
            <a:ext cx="387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ff"/>
                </a:solidFill>
                <a:latin typeface="Courier New"/>
              </a:rPr>
              <a:t>Verschmilz F sortierte Teilfol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0560" y="4294080"/>
            <a:ext cx="459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ff"/>
                </a:solidFill>
                <a:latin typeface="Courier New"/>
              </a:rPr>
              <a:t>Verschmilz weitere sortierte Teilfol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60560" y="5554800"/>
            <a:ext cx="459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99ff"/>
                </a:solidFill>
                <a:latin typeface="Courier New"/>
              </a:rPr>
              <a:t>Verschmilz weitere sortierte Teilfol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18080" y="2944800"/>
            <a:ext cx="44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00"/>
                </a:solidFill>
                <a:latin typeface="Courier New"/>
              </a:rPr>
              <a:t>Verschmilz F Teilfolgen beider Eingab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18080" y="3124080"/>
            <a:ext cx="44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00"/>
                </a:solidFill>
                <a:latin typeface="Courier New"/>
              </a:rPr>
              <a:t>und berechne dabei deren Verbu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451640" y="2259000"/>
            <a:ext cx="360360" cy="0"/>
          </a:xfrm>
          <a:prstGeom prst="line">
            <a:avLst/>
          </a:prstGeom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572000" y="2437920"/>
            <a:ext cx="3691080" cy="36036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451640" y="3429000"/>
            <a:ext cx="360360" cy="0"/>
          </a:xfrm>
          <a:prstGeom prst="line">
            <a:avLst/>
          </a:prstGeom>
          <a:ln cap="rnd" w="76320">
            <a:solidFill>
              <a:srgbClr val="00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72000" y="3922560"/>
            <a:ext cx="360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ogressive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erge </a:t>
            </a:r>
            <a:r>
              <a:rPr b="1" lang="de-DE" sz="2400" spc="-1" strike="noStrike" u="sng">
                <a:solidFill>
                  <a:srgbClr val="000000"/>
                </a:solidFill>
                <a:uFillTx/>
                <a:latin typeface="Times New Roman"/>
              </a:rPr>
              <a:t>J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oin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ttrich, Seeger, Taylor, Widmay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VLDB 2002, PODS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39840" y="1628640"/>
            <a:ext cx="4322520" cy="1349640"/>
            <a:chOff x="339840" y="1628640"/>
            <a:chExt cx="4322520" cy="1349640"/>
          </a:xfrm>
        </p:grpSpPr>
        <p:sp>
          <p:nvSpPr>
            <p:cNvPr id="423" name=""/>
            <p:cNvSpPr/>
            <p:nvPr/>
          </p:nvSpPr>
          <p:spPr>
            <a:xfrm flipH="1" flipV="1">
              <a:off x="3850920" y="1898640"/>
              <a:ext cx="81108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51280" y="1989000"/>
              <a:ext cx="811080" cy="98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840" y="1628640"/>
              <a:ext cx="351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Duplikateliminierung nöti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2" dur="indefinite" restart="never" nodeType="tmRoot">
          <p:childTnLst>
            <p:seq>
              <p:cTn id="1373" dur="indefinite" nodeType="mainSeq">
                <p:childTnLst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500"/>
                            </p:stCondLst>
                            <p:childTnLst>
                              <p:par>
                                <p:cTn id="14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9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434 0.00926 0.30885 0.01875 0.38646 0 C 0.46406 -0.01875 0.46545 -0.05625 0.46545 -0.1125 C 0.46545 -0.16875 0.42604 -0.25324 0.38646 -0.3375 E">
                                      <p:cBhvr>
                                        <p:cTn id="1459" dur="2000" fill="hold"/>
                                        <p:tgtEl>
                                          <p:spTgt spid="4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434 0.00833 0.30868 0.01666 0.38646 0 C 0.46424 -0.01667 0.46684 -0.01968 0.46667 -0.1 C 0.46649 -0.18033 0.42587 -0.33125 0.38542 -0.48195 E">
                                      <p:cBhvr>
                                        <p:cTn id="1463" dur="2000" fill="hold"/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3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7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fill="hold">
                            <p:stCondLst>
                              <p:cond delay="500"/>
                            </p:stCondLst>
                            <p:childTnLst>
                              <p:par>
                                <p:cTn id="14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222 E">
                                      <p:cBhvr>
                                        <p:cTn id="1484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7223 E">
                                      <p:cBhvr>
                                        <p:cTn id="1486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486 0.0081 0.30972 0.01644 0.3875 -0.00139 C 0.46528 -0.01921 0.46684 -0.06551 0.46667 -0.10694 C 0.46649 -0.14838 0.39982 -0.22616 0.38646 -0.25 E">
                                      <p:cBhvr>
                                        <p:cTn id="150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399 0.00834 0.30799 0.01667 0.38542 0 C 0.46285 -0.01666 0.46476 -0.03518 0.46459 -0.1 C 0.46441 -0.16481 0.42431 -0.27685 0.38438 -0.38889 E">
                                      <p:cBhvr>
                                        <p:cTn id="1512" dur="20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500"/>
                            </p:stCondLst>
                            <p:childTnLst>
                              <p:par>
                                <p:cTn id="1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Adaption PMJ auf Datenströ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arbeitung der Elemente beim Eintreff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jederzeit interne Puff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Generierung sortierter Ru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rtieren, Joinen und Schreiben der Teilfolgen auf den Externspeicher in eigenem Thread (hohe Prioritä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erschmelzen und Joinen der Externspeicherfolgen in weiterem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762360" y="4329000"/>
            <a:ext cx="1079640" cy="197964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32360" y="5754600"/>
            <a:ext cx="718560" cy="374400"/>
            <a:chOff x="4032360" y="5754600"/>
            <a:chExt cx="718560" cy="374400"/>
          </a:xfrm>
        </p:grpSpPr>
        <p:sp>
          <p:nvSpPr>
            <p:cNvPr id="430" name=""/>
            <p:cNvSpPr/>
            <p:nvPr/>
          </p:nvSpPr>
          <p:spPr>
            <a:xfrm flipH="1">
              <a:off x="4033800" y="5754600"/>
              <a:ext cx="717120" cy="374400"/>
            </a:xfrm>
            <a:prstGeom prst="rtTriangl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032360" y="5754600"/>
              <a:ext cx="717120" cy="3744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3943440" y="5664240"/>
            <a:ext cx="718560" cy="374400"/>
            <a:chOff x="3943440" y="5664240"/>
            <a:chExt cx="718560" cy="374400"/>
          </a:xfrm>
        </p:grpSpPr>
        <p:sp>
          <p:nvSpPr>
            <p:cNvPr id="433" name=""/>
            <p:cNvSpPr/>
            <p:nvPr/>
          </p:nvSpPr>
          <p:spPr>
            <a:xfrm flipH="1">
              <a:off x="3944880" y="5664240"/>
              <a:ext cx="717120" cy="374400"/>
            </a:xfrm>
            <a:prstGeom prst="rtTriangl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943440" y="5664240"/>
              <a:ext cx="717120" cy="3744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032360" y="5033880"/>
            <a:ext cx="720720" cy="374400"/>
            <a:chOff x="4032360" y="5033880"/>
            <a:chExt cx="720720" cy="374400"/>
          </a:xfrm>
        </p:grpSpPr>
        <p:sp>
          <p:nvSpPr>
            <p:cNvPr id="436" name=""/>
            <p:cNvSpPr/>
            <p:nvPr/>
          </p:nvSpPr>
          <p:spPr>
            <a:xfrm flipH="1">
              <a:off x="4032360" y="5033880"/>
              <a:ext cx="720720" cy="37440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4032360" y="5033880"/>
              <a:ext cx="720720" cy="3744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941640" y="4944960"/>
            <a:ext cx="720720" cy="374400"/>
            <a:chOff x="3941640" y="4944960"/>
            <a:chExt cx="720720" cy="374400"/>
          </a:xfrm>
        </p:grpSpPr>
        <p:sp>
          <p:nvSpPr>
            <p:cNvPr id="439" name=""/>
            <p:cNvSpPr/>
            <p:nvPr/>
          </p:nvSpPr>
          <p:spPr>
            <a:xfrm flipH="1">
              <a:off x="3941640" y="4944960"/>
              <a:ext cx="720720" cy="37440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941640" y="4944960"/>
              <a:ext cx="720720" cy="37440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141640" y="4869000"/>
            <a:ext cx="1439640" cy="3603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141640" y="5589720"/>
            <a:ext cx="1439640" cy="36036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289080" y="4959360"/>
            <a:ext cx="179640" cy="181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-289080" y="5680080"/>
            <a:ext cx="179640" cy="1810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411280" y="4780080"/>
            <a:ext cx="1575000" cy="12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1690560" y="4852800"/>
            <a:ext cx="720720" cy="374400"/>
            <a:chOff x="1690560" y="4852800"/>
            <a:chExt cx="720720" cy="374400"/>
          </a:xfrm>
        </p:grpSpPr>
        <p:sp>
          <p:nvSpPr>
            <p:cNvPr id="447" name=""/>
            <p:cNvSpPr/>
            <p:nvPr/>
          </p:nvSpPr>
          <p:spPr>
            <a:xfrm flipH="1">
              <a:off x="1690560" y="4853160"/>
              <a:ext cx="720720" cy="374040"/>
            </a:xfrm>
            <a:prstGeom prst="rtTriangl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1690560" y="4852440"/>
              <a:ext cx="720720" cy="3740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692360" y="5570280"/>
            <a:ext cx="718560" cy="374400"/>
            <a:chOff x="1692360" y="5570280"/>
            <a:chExt cx="718560" cy="374400"/>
          </a:xfrm>
        </p:grpSpPr>
        <p:sp>
          <p:nvSpPr>
            <p:cNvPr id="450" name=""/>
            <p:cNvSpPr/>
            <p:nvPr/>
          </p:nvSpPr>
          <p:spPr>
            <a:xfrm flipH="1">
              <a:off x="1693800" y="5570640"/>
              <a:ext cx="717120" cy="374040"/>
            </a:xfrm>
            <a:prstGeom prst="rtTriangle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1692360" y="5569920"/>
              <a:ext cx="717120" cy="3740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950920" y="5319720"/>
            <a:ext cx="360720" cy="179280"/>
            <a:chOff x="2950920" y="5319720"/>
            <a:chExt cx="360720" cy="179280"/>
          </a:xfrm>
        </p:grpSpPr>
        <p:sp>
          <p:nvSpPr>
            <p:cNvPr id="453" name=""/>
            <p:cNvSpPr/>
            <p:nvPr/>
          </p:nvSpPr>
          <p:spPr>
            <a:xfrm>
              <a:off x="2951280" y="5319720"/>
              <a:ext cx="36036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950920" y="5319720"/>
              <a:ext cx="36036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11640" y="531972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951280" y="531972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951280" y="5318280"/>
            <a:ext cx="360360" cy="180720"/>
            <a:chOff x="2951280" y="5318280"/>
            <a:chExt cx="360360" cy="180720"/>
          </a:xfrm>
        </p:grpSpPr>
        <p:sp>
          <p:nvSpPr>
            <p:cNvPr id="458" name=""/>
            <p:cNvSpPr/>
            <p:nvPr/>
          </p:nvSpPr>
          <p:spPr>
            <a:xfrm>
              <a:off x="2951280" y="5318280"/>
              <a:ext cx="179640" cy="1807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32360" y="5318280"/>
              <a:ext cx="179280" cy="180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5562360" y="5408640"/>
            <a:ext cx="360720" cy="179280"/>
            <a:chOff x="5562360" y="5408640"/>
            <a:chExt cx="360720" cy="179280"/>
          </a:xfrm>
        </p:grpSpPr>
        <p:sp>
          <p:nvSpPr>
            <p:cNvPr id="461" name=""/>
            <p:cNvSpPr/>
            <p:nvPr/>
          </p:nvSpPr>
          <p:spPr>
            <a:xfrm>
              <a:off x="5562720" y="5408640"/>
              <a:ext cx="36036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5562360" y="5408640"/>
              <a:ext cx="36036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23080" y="540864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562720" y="5408640"/>
              <a:ext cx="0" cy="17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562720" y="5408640"/>
            <a:ext cx="360360" cy="181080"/>
            <a:chOff x="5562720" y="5408640"/>
            <a:chExt cx="360360" cy="181080"/>
          </a:xfrm>
        </p:grpSpPr>
        <p:sp>
          <p:nvSpPr>
            <p:cNvPr id="466" name=""/>
            <p:cNvSpPr/>
            <p:nvPr/>
          </p:nvSpPr>
          <p:spPr>
            <a:xfrm>
              <a:off x="5562720" y="5408640"/>
              <a:ext cx="179640" cy="181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43800" y="5408640"/>
              <a:ext cx="179280" cy="181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932360" y="4438800"/>
            <a:ext cx="2520360" cy="1709640"/>
            <a:chOff x="4932360" y="4438800"/>
            <a:chExt cx="2520360" cy="1709640"/>
          </a:xfrm>
        </p:grpSpPr>
        <p:sp>
          <p:nvSpPr>
            <p:cNvPr id="469" name=""/>
            <p:cNvSpPr/>
            <p:nvPr/>
          </p:nvSpPr>
          <p:spPr>
            <a:xfrm>
              <a:off x="4932360" y="4438800"/>
              <a:ext cx="2519280" cy="170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"/>
            <p:cNvGrpSpPr/>
            <p:nvPr/>
          </p:nvGrpSpPr>
          <p:grpSpPr>
            <a:xfrm>
              <a:off x="5292720" y="4887720"/>
              <a:ext cx="2160000" cy="374400"/>
              <a:chOff x="5292720" y="4887720"/>
              <a:chExt cx="2160000" cy="37440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5292720" y="4888080"/>
                <a:ext cx="2160000" cy="374040"/>
              </a:xfrm>
              <a:prstGeom prst="rtTriangle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292720" y="4887360"/>
                <a:ext cx="2160000" cy="3740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5292720" y="5608440"/>
              <a:ext cx="2159280" cy="374400"/>
              <a:chOff x="5292720" y="5608440"/>
              <a:chExt cx="2159280" cy="374400"/>
            </a:xfrm>
          </p:grpSpPr>
          <p:sp>
            <p:nvSpPr>
              <p:cNvPr id="474" name=""/>
              <p:cNvSpPr/>
              <p:nvPr/>
            </p:nvSpPr>
            <p:spPr>
              <a:xfrm flipH="1">
                <a:off x="5297040" y="5608800"/>
                <a:ext cx="2154600" cy="374040"/>
              </a:xfrm>
              <a:prstGeom prst="rtTriangle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292720" y="5608080"/>
                <a:ext cx="2154600" cy="37404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6" dur="indefinite" restart="never" nodeType="tmRoot">
          <p:childTnLst>
            <p:seq>
              <p:cTn id="1547" dur="indefinite" nodeType="mainSeq">
                <p:childTnLst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62 -2.59259E-006 L 0.27344 -2.59259E-006 E">
                                      <p:cBhvr>
                                        <p:cTn id="1555" dur="1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89 -0.00024 L 0.27552 -0.00024 E">
                                      <p:cBhvr>
                                        <p:cTn id="1557" dur="1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-0.12795 -1.48148E-006 E">
                                      <p:cBhvr>
                                        <p:cTn id="1565" dur="10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6 L -0.12795 -3.7037E-006 E">
                                      <p:cBhvr>
                                        <p:cTn id="1567" dur="10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7622 2.59259E-006 E">
                                      <p:cBhvr>
                                        <p:cTn id="1584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500"/>
                            </p:stCondLst>
                            <p:childTnLst>
                              <p:par>
                                <p:cTn id="15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0.23628 -3.7037E-006 E">
                                      <p:cBhvr>
                                        <p:cTn id="1593" dur="5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L 0.23628 -3.7037E-006 E">
                                      <p:cBhvr>
                                        <p:cTn id="1595" dur="5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9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nodeType="withEffect" fill="hold" presetClass="path" presetID="0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61111E-006 -4.44444E-006 L -3.61111E-006 0.23634 E">
                                      <p:cBhvr>
                                        <p:cTn id="1606" dur="1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28 -3.7037E-006 L 0.39375 -3.7037E-006 E">
                                      <p:cBhvr>
                                        <p:cTn id="16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1641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47 0 E">
                                      <p:cBhvr>
                                        <p:cTn id="1643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45 -3.33333E-006 L 0.39375 -3.33333E-006 E">
                                      <p:cBhvr>
                                        <p:cTn id="1645" dur="20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0.00116 L 0.15746 0.00232 E">
                                      <p:cBhvr>
                                        <p:cTn id="1647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15 L 0.15764 0.00115 E">
                                      <p:cBhvr>
                                        <p:cTn id="1649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44444E-006 L -3.61111E-006 0.23634 E">
                                      <p:cBhvr>
                                        <p:cTn id="1657" dur="1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6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Temporal-PMJ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1216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ortierung nach Werten und Verwendung der Zeitfenstersemanti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: Zeitintervallordnung in Ausga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de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MJ produziert Ergebnisse mehr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uplikatelimin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gebnis erst zu geeignetem Zeitpunkt produz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r Sortierung von Teilmengen des Ergebnis nöt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etails siehe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onferenzbeitr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851280" y="4149720"/>
            <a:ext cx="27003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9" dur="indefinite" restart="never" nodeType="tmRoot">
          <p:childTnLst>
            <p:seq>
              <p:cTn id="1670" dur="indefinite" nodeType="mainSeq">
                <p:childTnLst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8" dur="500" fill="hold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"/>
                            </p:stCondLst>
                            <p:childTnLst>
                              <p:par>
                                <p:cTn id="16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0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6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4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8" fill="hold">
                            <p:stCondLst>
                              <p:cond delay="500"/>
                            </p:stCondLst>
                            <p:childTnLst>
                              <p:par>
                                <p:cTn id="17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9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Fazit und Ausblic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rtierbasierte Joinalgorithmen auch im Datenstromkontext anwendb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reites Spektrum an Joinprädika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gorithmus für endliche Strö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lgorithmen für unbegrenzte Strö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ontinuierliche Anfra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eitfensterseman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auptspeicheralgorithm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xternspeicheralgorithmus mit wertbasierter Sortier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itere Verbesserung der Integration in PIPES (DSMS-Bibliothe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4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7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4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4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9" dur="500" fill="hold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1175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Black"/>
              </a:rPr>
              <a:t>Vielen Dank für Ihre Aufmerksamkeit!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35040" y="3514320"/>
            <a:ext cx="8058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9900"/>
                </a:solidFill>
                <a:latin typeface="Arial Black"/>
              </a:rPr>
              <a:t>Fragen, Anregungen 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6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rtierbasierte Joins in DB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tenströ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robleme bei Adaption von Algorith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r Ansat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eitfensterseman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auptspeicherbasiertes Joinverf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gressive-Merge-Jo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orstell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aption auf Datenströ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daption auf Zeitfensterseman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10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692360" y="4510080"/>
            <a:ext cx="1439640" cy="1798560"/>
            <a:chOff x="1692360" y="4510080"/>
            <a:chExt cx="1439640" cy="1798560"/>
          </a:xfrm>
        </p:grpSpPr>
        <p:sp>
          <p:nvSpPr>
            <p:cNvPr id="214" name=""/>
            <p:cNvSpPr/>
            <p:nvPr/>
          </p:nvSpPr>
          <p:spPr>
            <a:xfrm>
              <a:off x="1692360" y="4510080"/>
              <a:ext cx="1439640" cy="71928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2360" y="5589720"/>
              <a:ext cx="1439640" cy="71892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BS-Joinverfahre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rt-Merge-Jo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lassischer Joinalgorithmus in DB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rtiert zunächst die Eingab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arbeitet diese dann globaler Sortierung folg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ashbasierte Algorithm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ür Equi-Joins oft bevorzug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Auf wenige Joinprädikate beschränk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rundlage vieler Algorithmen für Datenströ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23080" y="459900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2360" y="459900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02360" y="459900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63080" y="459900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02360" y="3517920"/>
            <a:ext cx="53964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2360" y="3517920"/>
            <a:ext cx="53964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63080" y="3519360"/>
            <a:ext cx="539640" cy="540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23080" y="3517920"/>
            <a:ext cx="53964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0920" y="5138640"/>
            <a:ext cx="0" cy="5414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050920" y="5138640"/>
            <a:ext cx="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050920" y="5138640"/>
            <a:ext cx="72072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320560" y="4869000"/>
            <a:ext cx="181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050920" y="5138640"/>
            <a:ext cx="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692360" y="3429000"/>
            <a:ext cx="1079280" cy="539640"/>
            <a:chOff x="1692360" y="3429000"/>
            <a:chExt cx="1079280" cy="539640"/>
          </a:xfrm>
        </p:grpSpPr>
        <p:sp>
          <p:nvSpPr>
            <p:cNvPr id="232" name=""/>
            <p:cNvSpPr/>
            <p:nvPr/>
          </p:nvSpPr>
          <p:spPr>
            <a:xfrm>
              <a:off x="1692360" y="3429000"/>
              <a:ext cx="53964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32000" y="3429000"/>
              <a:ext cx="539640" cy="539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132000" y="3429000"/>
            <a:ext cx="1079280" cy="539640"/>
            <a:chOff x="3132000" y="3429000"/>
            <a:chExt cx="1079280" cy="539640"/>
          </a:xfrm>
        </p:grpSpPr>
        <p:sp>
          <p:nvSpPr>
            <p:cNvPr id="235" name=""/>
            <p:cNvSpPr/>
            <p:nvPr/>
          </p:nvSpPr>
          <p:spPr>
            <a:xfrm>
              <a:off x="3132000" y="3429000"/>
              <a:ext cx="53964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71640" y="3429000"/>
              <a:ext cx="539640" cy="539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1.11111E-006 L -0.47257 0.15741 E">
                                      <p:cBhvr>
                                        <p:cTn id="140" dur="1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1.11111E-006 L -0.15747 0.15741 E">
                                      <p:cBhvr>
                                        <p:cTn id="142" dur="1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7 1.11111E-006 L -0.23628 0.15741 E">
                                      <p:cBhvr>
                                        <p:cTn id="144" dur="1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44444E-006 1.11111E-006 L -0.07881 0.15741 E">
                                      <p:cBhvr>
                                        <p:cTn id="146" dur="1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18 0 L -0.3151 0.15741 E">
                                      <p:cBhvr>
                                        <p:cTn id="148" dur="1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0017 0 L -0.39375 0.15741 E">
                                      <p:cBhvr>
                                        <p:cTn id="150" dur="1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77778E-007 0 L -0.23628 0.15741 E">
                                      <p:cBhvr>
                                        <p:cTn id="152" dur="1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5E-006 0.00023 L 5E-006 0.15764 E">
                                      <p:cBhvr>
                                        <p:cTn id="154" dur="1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57 0.1574 L -0.70885 0.1574 E">
                                      <p:cBhvr>
                                        <p:cTn id="168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51 0.1574 L -0.55138 0.1574 E">
                                      <p:cBhvr>
                                        <p:cTn id="171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500"/>
                            </p:stCondLst>
                            <p:childTnLst>
                              <p:par>
                                <p:cTn id="17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885 0.1574 L -1.01389 0.1574 E">
                                      <p:cBhvr>
                                        <p:cTn id="183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47 0.1574 L -0.47257 0.1574 E">
                                      <p:cBhvr>
                                        <p:cTn id="18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75 0.1574 L -0.63003 0.1574 E">
                                      <p:cBhvr>
                                        <p:cTn id="203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57 0.1574 L -0.77761 0.1574 E">
                                      <p:cBhvr>
                                        <p:cTn id="222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38 0.1574 L -0.85642 0.1574 E">
                                      <p:cBhvr>
                                        <p:cTn id="22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3004 0.1574 L -0.70868 0.1574 E">
                                      <p:cBhvr>
                                        <p:cTn id="22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5741 L -0.55121 0.15764 E">
                                      <p:cBhvr>
                                        <p:cTn id="229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885 0.15717 L -1.01389 0.1574 E">
                                      <p:cBhvr>
                                        <p:cTn id="24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55121 0.15764 L -0.63003 0.15764 E">
                                      <p:cBhvr>
                                        <p:cTn id="242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7000"/>
                            </p:stCondLst>
                            <p:childTnLst>
                              <p:par>
                                <p:cTn id="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5741 L -0.63003 0.15764 E">
                                      <p:cBhvr>
                                        <p:cTn id="245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90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0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500"/>
                            </p:stCondLst>
                            <p:childTnLst>
                              <p:par>
                                <p:cTn id="2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5764 L -0.39375 0.15764 E">
                                      <p:cBhvr>
                                        <p:cTn id="26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2500"/>
                            </p:stCondLst>
                            <p:childTnLst>
                              <p:par>
                                <p:cTn id="2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3000"/>
                            </p:stCondLst>
                            <p:childTnLst>
                              <p:par>
                                <p:cTn id="273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4000"/>
                            </p:stCondLst>
                            <p:childTnLst>
                              <p:par>
                                <p:cTn id="2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03 0.1574 L -0.93507 0.1574 E">
                                      <p:cBhvr>
                                        <p:cTn id="281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03 0.1574 L -0.93507 0.1574 E">
                                      <p:cBhvr>
                                        <p:cTn id="283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39375 0.15764 L -0.47257 0.15764 E">
                                      <p:cBhvr>
                                        <p:cTn id="285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6500"/>
                            </p:stCondLst>
                            <p:childTnLst>
                              <p:par>
                                <p:cTn id="2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1 0.1574 L -0.55138 0.1574 E">
                                      <p:cBhvr>
                                        <p:cTn id="288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0"/>
                            </p:stCondLst>
                            <p:childTnLst>
                              <p:par>
                                <p:cTn id="2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57 0.1574 L -0.77761 0.1574 E">
                                      <p:cBhvr>
                                        <p:cTn id="299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2000"/>
                            </p:stCondLst>
                            <p:childTnLst>
                              <p:par>
                                <p:cTn id="3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38 0.1574 L -0.85642 0.1574 E">
                                      <p:cBhvr>
                                        <p:cTn id="302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4000"/>
                            </p:stCondLst>
                            <p:childTnLst>
                              <p:par>
                                <p:cTn id="304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4500"/>
                            </p:stCondLst>
                            <p:childTnLst>
                              <p:par>
                                <p:cTn id="3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09843 0.32824 E">
                                      <p:cBhvr>
                                        <p:cTn id="312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L 0.09844 0.32824 E">
                                      <p:cBhvr>
                                        <p:cTn id="314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182000" y="4238640"/>
            <a:ext cx="630000" cy="1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692360" y="4510080"/>
            <a:ext cx="1439640" cy="1798560"/>
            <a:chOff x="1692360" y="4510080"/>
            <a:chExt cx="1439640" cy="1798560"/>
          </a:xfrm>
        </p:grpSpPr>
        <p:sp>
          <p:nvSpPr>
            <p:cNvPr id="239" name=""/>
            <p:cNvSpPr/>
            <p:nvPr/>
          </p:nvSpPr>
          <p:spPr>
            <a:xfrm>
              <a:off x="1692360" y="4510080"/>
              <a:ext cx="1439640" cy="71928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2360" y="5589720"/>
              <a:ext cx="1439640" cy="718920"/>
            </a:xfrm>
            <a:prstGeom prst="rect">
              <a:avLst/>
            </a:prstGeom>
            <a:noFill/>
            <a:ln w="38160">
              <a:solidFill>
                <a:srgbClr val="b2b2b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Komplexere Joinprädik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ispiel: Intervall-Jo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Join halboffener Intervalle auf Schnit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rtiert lexikografisch nach Intervallbeginn und -en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Verarbeitet diese dann globaler Sortierung folg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Weitere Beispie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and-Jo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patial-Join (Räumlicher Verbu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23080" y="459900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7,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2360" y="459900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6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02360" y="459900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3,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263080" y="4599000"/>
            <a:ext cx="539640" cy="539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1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02360" y="3517920"/>
            <a:ext cx="53964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8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2360" y="3517920"/>
            <a:ext cx="53964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6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63080" y="3519360"/>
            <a:ext cx="539640" cy="540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5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23080" y="3517920"/>
            <a:ext cx="539640" cy="53964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00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[2,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5138640"/>
            <a:ext cx="0" cy="5414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0920" y="5138640"/>
            <a:ext cx="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050920" y="5138640"/>
            <a:ext cx="72072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320560" y="4869000"/>
            <a:ext cx="181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92360" y="3429000"/>
            <a:ext cx="1079280" cy="539640"/>
            <a:chOff x="1692360" y="3429000"/>
            <a:chExt cx="1079280" cy="539640"/>
          </a:xfrm>
        </p:grpSpPr>
        <p:sp>
          <p:nvSpPr>
            <p:cNvPr id="256" name=""/>
            <p:cNvSpPr/>
            <p:nvPr/>
          </p:nvSpPr>
          <p:spPr>
            <a:xfrm>
              <a:off x="1692360" y="3429000"/>
              <a:ext cx="53964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[2,4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32000" y="3429000"/>
              <a:ext cx="539640" cy="539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[3,5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132000" y="3429000"/>
            <a:ext cx="1079280" cy="539640"/>
            <a:chOff x="3132000" y="3429000"/>
            <a:chExt cx="1079280" cy="539640"/>
          </a:xfrm>
        </p:grpSpPr>
        <p:sp>
          <p:nvSpPr>
            <p:cNvPr id="259" name=""/>
            <p:cNvSpPr/>
            <p:nvPr/>
          </p:nvSpPr>
          <p:spPr>
            <a:xfrm>
              <a:off x="3132000" y="3429000"/>
              <a:ext cx="53964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[5,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71640" y="3429000"/>
              <a:ext cx="539640" cy="539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[6,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4572000" y="3429000"/>
            <a:ext cx="1079280" cy="539640"/>
            <a:chOff x="4572000" y="3429000"/>
            <a:chExt cx="1079280" cy="539640"/>
          </a:xfrm>
        </p:grpSpPr>
        <p:sp>
          <p:nvSpPr>
            <p:cNvPr id="262" name=""/>
            <p:cNvSpPr/>
            <p:nvPr/>
          </p:nvSpPr>
          <p:spPr>
            <a:xfrm>
              <a:off x="4572000" y="3429000"/>
              <a:ext cx="53964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[6,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11640" y="3429000"/>
              <a:ext cx="539640" cy="539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[6,7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>
            <a:off x="2050920" y="5138640"/>
            <a:ext cx="720720" cy="54144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71640" y="5138640"/>
            <a:ext cx="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2050920" y="5138640"/>
            <a:ext cx="720720" cy="5414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320560" y="5950080"/>
            <a:ext cx="18108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72360" y="4238640"/>
            <a:ext cx="1439640" cy="8110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182000" y="3249720"/>
            <a:ext cx="900000" cy="11700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77778E-007 1.11111E-006 L -0.47257 0.15741 E">
                                      <p:cBhvr>
                                        <p:cTn id="394" dur="1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1.11111E-006 L -0.15747 0.15741 E">
                                      <p:cBhvr>
                                        <p:cTn id="396" dur="1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2.77778E-007 1.11111E-006 L -0.23628 0.15741 E">
                                      <p:cBhvr>
                                        <p:cTn id="398" dur="1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44444E-006 1.11111E-006 L -0.07881 0.15741 E">
                                      <p:cBhvr>
                                        <p:cTn id="400" dur="1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018 0 L -0.3151 0.15741 E">
                                      <p:cBhvr>
                                        <p:cTn id="402" dur="1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00017 0 L -0.39375 0.15741 E">
                                      <p:cBhvr>
                                        <p:cTn id="404" dur="1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0">
                                  <p:stCondLst>
                                    <p:cond delay="3500"/>
                                  </p:stCondLst>
                                  <p:childTnLst>
                                    <p:animMotion origin="layout" path="M -2.77778E-007 0 L -0.23628 0.15741 E">
                                      <p:cBhvr>
                                        <p:cTn id="406" dur="1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5E-006 0.00023 L 5E-006 0.15764 E">
                                      <p:cBhvr>
                                        <p:cTn id="408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3000"/>
                            </p:stCondLst>
                            <p:childTnLst>
                              <p:par>
                                <p:cTn id="4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57 0.1574 L -0.70885 0.1574 E">
                                      <p:cBhvr>
                                        <p:cTn id="42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51 0.1574 L -0.55138 0.1574 E">
                                      <p:cBhvr>
                                        <p:cTn id="425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500"/>
                            </p:stCondLst>
                            <p:childTnLst>
                              <p:par>
                                <p:cTn id="4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885 0.1574 L -1.01389 0.1574 E">
                                      <p:cBhvr>
                                        <p:cTn id="437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47 0.1574 L -0.47257 0.1574 E">
                                      <p:cBhvr>
                                        <p:cTn id="440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375 0.1574 L -0.63003 0.1574 E">
                                      <p:cBhvr>
                                        <p:cTn id="45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468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57 0.1574 L -0.77761 0.1574 E">
                                      <p:cBhvr>
                                        <p:cTn id="476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38 0.1574 L -0.85642 0.1574 E">
                                      <p:cBhvr>
                                        <p:cTn id="478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63004 0.1574 L -0.70868 0.1574 E">
                                      <p:cBhvr>
                                        <p:cTn id="480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5741 L -0.55121 0.15764 E">
                                      <p:cBhvr>
                                        <p:cTn id="483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628 0.15741 L -0.63003 0.15764 E">
                                      <p:cBhvr>
                                        <p:cTn id="48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27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8000"/>
                            </p:stCondLst>
                            <p:childTnLst>
                              <p:par>
                                <p:cTn id="49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8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9000"/>
                            </p:stCondLst>
                            <p:childTnLst>
                              <p:par>
                                <p:cTn id="5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9500"/>
                            </p:stCondLst>
                            <p:childTnLst>
                              <p:par>
                                <p:cTn id="5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0"/>
                            </p:stCondLst>
                            <p:childTnLst>
                              <p:par>
                                <p:cTn id="5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1 0.15741 L -0.47256 0.15764 E">
                                      <p:cBhvr>
                                        <p:cTn id="517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2000"/>
                            </p:stCondLst>
                            <p:childTnLst>
                              <p:par>
                                <p:cTn id="5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32500"/>
                            </p:stCondLst>
                            <p:childTnLst>
                              <p:par>
                                <p:cTn id="532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34000"/>
                            </p:stCondLst>
                            <p:childTnLst>
                              <p:par>
                                <p:cTn id="5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21 0.15764 L -0.93507 0.15764 E">
                                      <p:cBhvr>
                                        <p:cTn id="543" dur="25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3003 0.1574 L -0.93507 0.1574 E">
                                      <p:cBhvr>
                                        <p:cTn id="545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885 0.15717 L -1.01389 0.1574 E">
                                      <p:cBhvr>
                                        <p:cTn id="547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5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56 0.15764 L -0.55138 0.15764 E">
                                      <p:cBhvr>
                                        <p:cTn id="55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8500"/>
                            </p:stCondLst>
                            <p:childTnLst>
                              <p:par>
                                <p:cTn id="5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0.15764 L -0.47257 0.15764 E">
                                      <p:cBhvr>
                                        <p:cTn id="553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5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560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42000"/>
                            </p:stCondLst>
                            <p:childTnLst>
                              <p:par>
                                <p:cTn id="5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5138 0.1574 L -0.85642 0.1574 E">
                                      <p:cBhvr>
                                        <p:cTn id="565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4000"/>
                            </p:stCondLst>
                            <p:childTnLst>
                              <p:par>
                                <p:cTn id="5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7257 0.1574 L -0.77761 0.1574 E">
                                      <p:cBhvr>
                                        <p:cTn id="56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46000"/>
                            </p:stCondLst>
                            <p:childTnLst>
                              <p:par>
                                <p:cTn id="570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46500"/>
                            </p:stCondLst>
                            <p:childTnLst>
                              <p:par>
                                <p:cTn id="5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85185E-006 L 0.05903 0.32824 E">
                                      <p:cBhvr>
                                        <p:cTn id="578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0.00023 L 0.05903 0.32801 E">
                                      <p:cBhvr>
                                        <p:cTn id="580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023 L 0.05903 0.32801 E">
                                      <p:cBhvr>
                                        <p:cTn id="582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 rot="20857200">
            <a:off x="6822720" y="5072040"/>
            <a:ext cx="985680" cy="6033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 rot="607800">
            <a:off x="7407000" y="4869000"/>
            <a:ext cx="449280" cy="4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43800" y="297972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7543800" y="2349000"/>
            <a:ext cx="899640" cy="631800"/>
            <a:chOff x="7543800" y="2349000"/>
            <a:chExt cx="899640" cy="631800"/>
          </a:xfrm>
        </p:grpSpPr>
        <p:sp>
          <p:nvSpPr>
            <p:cNvPr id="274" name=""/>
            <p:cNvSpPr/>
            <p:nvPr/>
          </p:nvSpPr>
          <p:spPr>
            <a:xfrm flipV="1">
              <a:off x="7543800" y="2349360"/>
              <a:ext cx="179280" cy="630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8264160" y="2349000"/>
              <a:ext cx="179280" cy="63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723080" y="2349360"/>
              <a:ext cx="72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V="1">
            <a:off x="7183440" y="297936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7543800" y="3735360"/>
            <a:ext cx="718920" cy="722520"/>
            <a:chOff x="7543800" y="3735360"/>
            <a:chExt cx="718920" cy="722520"/>
          </a:xfrm>
        </p:grpSpPr>
        <p:sp>
          <p:nvSpPr>
            <p:cNvPr id="279" name=""/>
            <p:cNvSpPr/>
            <p:nvPr/>
          </p:nvSpPr>
          <p:spPr>
            <a:xfrm flipV="1">
              <a:off x="7543800" y="409536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8262720" y="373536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43800" y="4456080"/>
              <a:ext cx="718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7362720" y="3519360"/>
            <a:ext cx="360360" cy="360360"/>
          </a:xfrm>
          <a:prstGeom prst="rect">
            <a:avLst/>
          </a:prstGeom>
          <a:solidFill>
            <a:srgbClr val="ffed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62720" y="3519360"/>
            <a:ext cx="360360" cy="360360"/>
          </a:xfrm>
          <a:prstGeom prst="rect">
            <a:avLst/>
          </a:prstGeom>
          <a:solidFill>
            <a:srgbClr val="ffed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62720" y="3519360"/>
            <a:ext cx="360360" cy="360360"/>
          </a:xfrm>
          <a:prstGeom prst="rect">
            <a:avLst/>
          </a:prstGeom>
          <a:solidFill>
            <a:srgbClr val="ffed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362720" y="3519360"/>
            <a:ext cx="360360" cy="360360"/>
          </a:xfrm>
          <a:prstGeom prst="rect">
            <a:avLst/>
          </a:prstGeom>
          <a:solidFill>
            <a:srgbClr val="ffed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902360" y="297972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32720" y="3338640"/>
            <a:ext cx="1170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Datenströ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684036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lassische Datenbankverarbeitung applikationsgetrie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tenstromverarbeitung datengetrieb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arbeitung direkt beim Empf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dnung von Datenquellen vor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tromgröße potentiell unbeschrän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 erneutes Lesen mögl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Änderungsoperationen auf dem St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362720" y="1035000"/>
            <a:ext cx="263520" cy="5032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7183440" y="334008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902720" y="334008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83440" y="4059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7902720" y="3698640"/>
            <a:ext cx="36036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263080" y="2979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83440" y="334008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792000" y="5499000"/>
            <a:ext cx="6086160" cy="1227240"/>
            <a:chOff x="792000" y="5499000"/>
            <a:chExt cx="6086160" cy="1227240"/>
          </a:xfrm>
        </p:grpSpPr>
        <p:sp>
          <p:nvSpPr>
            <p:cNvPr id="298" name=""/>
            <p:cNvSpPr/>
            <p:nvPr/>
          </p:nvSpPr>
          <p:spPr>
            <a:xfrm>
              <a:off x="792000" y="5499000"/>
              <a:ext cx="6086160" cy="1227240"/>
            </a:xfrm>
            <a:prstGeom prst="rect">
              <a:avLst/>
            </a:prstGeom>
            <a:solidFill>
              <a:srgbClr val="b9b9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25200" y="5619240"/>
              <a:ext cx="5800680" cy="97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53640" y="5674680"/>
              <a:ext cx="5762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Times New Roman"/>
                </a:rPr>
                <a:t>Welche Joinalgorithmen sind für diese Anforderungen geeignet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C 0.00695 -0.05694 0.01424 -0.11296 0.00104 -0.15671 C -0.01215 -0.20023 -0.04549 -0.23148 -0.07864 -0.2625 E">
                                      <p:cBhvr>
                                        <p:cTn id="643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4500"/>
                            </p:stCondLst>
                            <p:childTnLst>
                              <p:par>
                                <p:cTn id="6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00017 -0.2625 E">
                                      <p:cBhvr>
                                        <p:cTn id="646" dur="2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6500"/>
                            </p:stCondLst>
                            <p:childTnLst>
                              <p:par>
                                <p:cTn id="6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85185E-006 C -0.00642 -0.05717 -0.01267 -0.11389 -2.5E-006 -0.15764 C 0.01302 -0.20139 0.04532 -0.23217 0.07778 -0.2625 E">
                                      <p:cBhvr>
                                        <p:cTn id="649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8500"/>
                            </p:stCondLst>
                            <p:childTnLst>
                              <p:par>
                                <p:cTn id="6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7 -1.85185E-006 L 0.00017 0.525 E">
                                      <p:cBhvr>
                                        <p:cTn id="674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0017 0.20996 E">
                                      <p:cBhvr>
                                        <p:cTn id="686" dur="1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4572000" y="5769000"/>
            <a:ext cx="2251080" cy="539640"/>
            <a:chOff x="4572000" y="5769000"/>
            <a:chExt cx="2251080" cy="539640"/>
          </a:xfrm>
        </p:grpSpPr>
        <p:sp>
          <p:nvSpPr>
            <p:cNvPr id="302" name=""/>
            <p:cNvSpPr/>
            <p:nvPr/>
          </p:nvSpPr>
          <p:spPr>
            <a:xfrm>
              <a:off x="5292720" y="5769000"/>
              <a:ext cx="539640" cy="539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2000" y="5769000"/>
              <a:ext cx="539640" cy="539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62720" y="6039000"/>
              <a:ext cx="36036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572000" y="4869000"/>
            <a:ext cx="4321080" cy="539640"/>
            <a:chOff x="4572000" y="4869000"/>
            <a:chExt cx="4321080" cy="539640"/>
          </a:xfrm>
        </p:grpSpPr>
        <p:sp>
          <p:nvSpPr>
            <p:cNvPr id="306" name=""/>
            <p:cNvSpPr/>
            <p:nvPr/>
          </p:nvSpPr>
          <p:spPr>
            <a:xfrm>
              <a:off x="4572000" y="4869000"/>
              <a:ext cx="53964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92720" y="4869000"/>
              <a:ext cx="53964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51640" y="4869000"/>
              <a:ext cx="540000" cy="53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62720" y="5138640"/>
              <a:ext cx="36036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532720" y="5138640"/>
              <a:ext cx="360360" cy="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-198360" y="4419720"/>
            <a:ext cx="2609640" cy="224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Adaptionsproble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eich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Jedes Element könnte mit Element an beliebiger Position im anderen joi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Kein wahlfreier Zugri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twendigkeit der Speicherung aller empfangenen Ele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Potentiell unendliche Datenströ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peicherung unendlicher Datenme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ort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lockierende Op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Ergeb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4841640" y="5408640"/>
            <a:ext cx="2881080" cy="361800"/>
          </a:xfrm>
          <a:prstGeom prst="line">
            <a:avLst/>
          </a:prstGeom>
          <a:ln w="38160">
            <a:solidFill>
              <a:srgbClr val="0099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80920" y="4508640"/>
            <a:ext cx="1528920" cy="207144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000"/>
                            </p:stCondLst>
                            <p:childTnLst>
                              <p:par>
                                <p:cTn id="747" nodeType="afterEffect" fill="hold" presetClass="exit" presetID="9">
                                  <p:stCondLst>
                                    <p:cond delay="4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72222E-006 4.44444E-006 L -1.16163 4.44444E-006 E">
                                      <p:cBhvr>
                                        <p:cTn id="769" dur="5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4.44444E-006 L -1.18628 4.44444E-006 E">
                                      <p:cBhvr>
                                        <p:cTn id="771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500"/>
                            </p:stCondLst>
                            <p:childTnLst>
                              <p:par>
                                <p:cTn id="785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30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8" dur="3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Sortierbasierte Joins in DB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Datenströ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Probleme bei Adaption von Algorithm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rster Ansat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Zeitfensterseman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Hauptspeicherbasiertes Joinverfah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2b2b2"/>
                </a:solidFill>
                <a:latin typeface="Arial"/>
              </a:rPr>
              <a:t>Progressive-Merge-Jo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Vorstellu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Adaption auf Datenströ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b2b2b2"/>
                </a:solidFill>
                <a:latin typeface="Arial"/>
              </a:rPr>
              <a:t>Adaption auf Zeitfenstersemanti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Problembegrenzu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92144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uss ein Element mit beliebig später eintreffenden Elementen in Beziehung stehen könn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inschränkung der Gültigkeitsdauer eines Elem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n der Gültigkeit bei Startzeitstempel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e der Gültigkeit ab Startzeitstempel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lboffenes Gültigkeitsintervall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[t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,t</a:t>
            </a:r>
            <a:r>
              <a:rPr b="1" lang="de-DE" sz="2000" spc="-1" strike="noStrike" baseline="-25000">
                <a:solidFill>
                  <a:srgbClr val="000000"/>
                </a:solidFill>
                <a:latin typeface="Courier New"/>
              </a:rPr>
              <a:t>e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eitfen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Element mit Gültigkeitsintervall 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(e,[t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Courier New"/>
              </a:rPr>
              <a:t>s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,t</a:t>
            </a:r>
            <a:r>
              <a:rPr b="1" lang="de-DE" sz="2200" spc="-1" strike="noStrike" baseline="-25000">
                <a:solidFill>
                  <a:srgbClr val="000000"/>
                </a:solidFill>
                <a:latin typeface="Courier New"/>
              </a:rPr>
              <a:t>e</a:t>
            </a: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Logische Zeitpunk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71640" y="5897520"/>
            <a:ext cx="5051160" cy="459720"/>
            <a:chOff x="971640" y="5897520"/>
            <a:chExt cx="5051160" cy="459720"/>
          </a:xfrm>
        </p:grpSpPr>
        <p:sp>
          <p:nvSpPr>
            <p:cNvPr id="321" name=""/>
            <p:cNvSpPr/>
            <p:nvPr/>
          </p:nvSpPr>
          <p:spPr>
            <a:xfrm>
              <a:off x="971640" y="5948280"/>
              <a:ext cx="504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1720" y="5897520"/>
              <a:ext cx="81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Z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692360" y="5676840"/>
            <a:ext cx="2971800" cy="180720"/>
            <a:chOff x="1692360" y="5676840"/>
            <a:chExt cx="2971800" cy="180720"/>
          </a:xfrm>
        </p:grpSpPr>
        <p:sp>
          <p:nvSpPr>
            <p:cNvPr id="324" name=""/>
            <p:cNvSpPr/>
            <p:nvPr/>
          </p:nvSpPr>
          <p:spPr>
            <a:xfrm>
              <a:off x="1692360" y="5767200"/>
              <a:ext cx="29718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92360" y="5676840"/>
              <a:ext cx="0" cy="180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2000" y="5676840"/>
              <a:ext cx="88920" cy="180720"/>
            </a:xfrm>
            <a:custGeom>
              <a:avLst/>
              <a:gdLst>
                <a:gd name="textAreaLeft" fmla="*/ 0 w 88920"/>
                <a:gd name="textAreaRight" fmla="*/ 62280 w 88920"/>
                <a:gd name="textAreaTop" fmla="*/ 7200 h 180720"/>
                <a:gd name="textAreaBottom" fmla="*/ 173520 h 1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1332000" y="51386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Courier New"/>
              </a:rPr>
              <a:t>t</a:t>
            </a:r>
            <a:r>
              <a:rPr b="1" lang="de-DE" sz="2400" spc="-1" strike="noStrike" baseline="-25000">
                <a:solidFill>
                  <a:srgbClr val="cc3300"/>
                </a:solidFill>
                <a:latin typeface="Courier New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11640" y="5138640"/>
            <a:ext cx="72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3300"/>
                </a:solidFill>
                <a:latin typeface="Courier New"/>
              </a:rPr>
              <a:t>t</a:t>
            </a:r>
            <a:r>
              <a:rPr b="1" lang="de-DE" sz="2400" spc="-1" strike="noStrike" baseline="-25000">
                <a:solidFill>
                  <a:srgbClr val="cc3300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500"/>
                            </p:stCondLst>
                            <p:childTnLst>
                              <p:par>
                                <p:cTn id="8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9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9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9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9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68360" y="304560"/>
            <a:ext cx="662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Zeitfenstersemanti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312920"/>
            <a:ext cx="792144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chnappschuss-Reduzierbarkeit (Snapshot-Reducibil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 einer Operation sollen zum Zeitpunkt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genau die Ergebnisse gültig sein, die durch die klassische Operation aus den zum Zeitpunkt </a:t>
            </a:r>
            <a:r>
              <a:rPr b="1" lang="de-DE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ültigen Eingabeelementen berechnet werd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Joinergebnis entsteht aus zwei Eingabe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ültig, wenn beide Eingabeelemente gültig s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roblem damit immer noch nicht gelö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1467000" y="3068640"/>
                <a:ext cx="6796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O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2" name=""/>
          <p:cNvGrpSpPr/>
          <p:nvPr/>
        </p:nvGrpSpPr>
        <p:grpSpPr>
          <a:xfrm>
            <a:off x="1692360" y="5678640"/>
            <a:ext cx="2158920" cy="182520"/>
            <a:chOff x="1692360" y="5678640"/>
            <a:chExt cx="2158920" cy="182520"/>
          </a:xfrm>
        </p:grpSpPr>
        <p:sp>
          <p:nvSpPr>
            <p:cNvPr id="333" name=""/>
            <p:cNvSpPr/>
            <p:nvPr/>
          </p:nvSpPr>
          <p:spPr>
            <a:xfrm>
              <a:off x="1692360" y="5769000"/>
              <a:ext cx="215892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92360" y="5680080"/>
              <a:ext cx="0" cy="181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60920" y="5678640"/>
              <a:ext cx="88920" cy="180720"/>
            </a:xfrm>
            <a:custGeom>
              <a:avLst/>
              <a:gdLst>
                <a:gd name="textAreaLeft" fmla="*/ 0 w 88920"/>
                <a:gd name="textAreaRight" fmla="*/ 62280 w 88920"/>
                <a:gd name="textAreaTop" fmla="*/ 7200 h 180720"/>
                <a:gd name="textAreaBottom" fmla="*/ 173520 h 1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132000" y="5499000"/>
            <a:ext cx="1439640" cy="181080"/>
            <a:chOff x="3132000" y="5499000"/>
            <a:chExt cx="1439640" cy="181080"/>
          </a:xfrm>
        </p:grpSpPr>
        <p:sp>
          <p:nvSpPr>
            <p:cNvPr id="337" name=""/>
            <p:cNvSpPr/>
            <p:nvPr/>
          </p:nvSpPr>
          <p:spPr>
            <a:xfrm>
              <a:off x="3132000" y="5589720"/>
              <a:ext cx="14396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132000" y="5499000"/>
              <a:ext cx="0" cy="18108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81280" y="5499000"/>
              <a:ext cx="88920" cy="181080"/>
            </a:xfrm>
            <a:custGeom>
              <a:avLst/>
              <a:gdLst>
                <a:gd name="textAreaLeft" fmla="*/ 0 w 88920"/>
                <a:gd name="textAreaRight" fmla="*/ 62280 w 88920"/>
                <a:gd name="textAreaTop" fmla="*/ 7560 h 181080"/>
                <a:gd name="textAreaBottom" fmla="*/ 173880 h 1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132000" y="5229360"/>
            <a:ext cx="719280" cy="180720"/>
            <a:chOff x="3132000" y="5229360"/>
            <a:chExt cx="719280" cy="180720"/>
          </a:xfrm>
        </p:grpSpPr>
        <p:sp>
          <p:nvSpPr>
            <p:cNvPr id="341" name=""/>
            <p:cNvSpPr/>
            <p:nvPr/>
          </p:nvSpPr>
          <p:spPr>
            <a:xfrm>
              <a:off x="3132000" y="5318280"/>
              <a:ext cx="71928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32000" y="5229360"/>
              <a:ext cx="0" cy="1807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62360" y="5229360"/>
              <a:ext cx="88920" cy="180720"/>
            </a:xfrm>
            <a:custGeom>
              <a:avLst/>
              <a:gdLst>
                <a:gd name="textAreaLeft" fmla="*/ 0 w 88920"/>
                <a:gd name="textAreaRight" fmla="*/ 62280 w 88920"/>
                <a:gd name="textAreaTop" fmla="*/ 7200 h 180720"/>
                <a:gd name="textAreaBottom" fmla="*/ 173520 h 18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971640" y="5950080"/>
            <a:ext cx="5051160" cy="459720"/>
            <a:chOff x="971640" y="5950080"/>
            <a:chExt cx="5051160" cy="459720"/>
          </a:xfrm>
        </p:grpSpPr>
        <p:sp>
          <p:nvSpPr>
            <p:cNvPr id="345" name=""/>
            <p:cNvSpPr/>
            <p:nvPr/>
          </p:nvSpPr>
          <p:spPr>
            <a:xfrm>
              <a:off x="971640" y="6000840"/>
              <a:ext cx="504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211720" y="5950080"/>
              <a:ext cx="81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Ze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 flipV="1">
            <a:off x="3492360" y="51386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302000" y="51386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681280" y="51386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241280" y="513864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32000" y="4143240"/>
            <a:ext cx="14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…,S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30920" y="4143240"/>
            <a:ext cx="143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…,R</a:t>
            </a:r>
            <a:r>
              <a:rPr b="0" lang="de-DE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32000" y="60325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32360" y="60325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771640" y="3962520"/>
            <a:ext cx="2159280" cy="541080"/>
            <a:chOff x="2771640" y="3962520"/>
            <a:chExt cx="2159280" cy="541080"/>
          </a:xfrm>
        </p:grpSpPr>
        <p:sp>
          <p:nvSpPr>
            <p:cNvPr id="356" name=""/>
            <p:cNvSpPr/>
            <p:nvPr/>
          </p:nvSpPr>
          <p:spPr>
            <a:xfrm>
              <a:off x="2771640" y="4503600"/>
              <a:ext cx="215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132000" y="3962520"/>
              <a:ext cx="14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771640" y="5762520"/>
            <a:ext cx="2159280" cy="540000"/>
            <a:chOff x="2771640" y="5762520"/>
            <a:chExt cx="2159280" cy="540000"/>
          </a:xfrm>
        </p:grpSpPr>
        <p:sp>
          <p:nvSpPr>
            <p:cNvPr id="359" name=""/>
            <p:cNvSpPr/>
            <p:nvPr/>
          </p:nvSpPr>
          <p:spPr>
            <a:xfrm>
              <a:off x="2771640" y="6302520"/>
              <a:ext cx="215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32000" y="5762520"/>
              <a:ext cx="14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880920" y="4862520"/>
            <a:ext cx="1440000" cy="1081080"/>
            <a:chOff x="880920" y="4862520"/>
            <a:chExt cx="1440000" cy="1081080"/>
          </a:xfrm>
        </p:grpSpPr>
        <p:sp>
          <p:nvSpPr>
            <p:cNvPr id="362" name=""/>
            <p:cNvSpPr/>
            <p:nvPr/>
          </p:nvSpPr>
          <p:spPr>
            <a:xfrm>
              <a:off x="2050920" y="4862520"/>
              <a:ext cx="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80920" y="5043600"/>
              <a:ext cx="1440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r>
                <a:rPr b="0" lang="de-DE" sz="2400" spc="-1" strike="noStrike" baseline="-25000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4572000" y="4862520"/>
            <a:ext cx="1440000" cy="1081080"/>
            <a:chOff x="4572000" y="4862520"/>
            <a:chExt cx="1440000" cy="1081080"/>
          </a:xfrm>
        </p:grpSpPr>
        <p:sp>
          <p:nvSpPr>
            <p:cNvPr id="365" name=""/>
            <p:cNvSpPr/>
            <p:nvPr/>
          </p:nvSpPr>
          <p:spPr>
            <a:xfrm>
              <a:off x="5651640" y="4862520"/>
              <a:ext cx="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50436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3132000" y="49482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9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9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5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102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5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7:06:14Z</dcterms:created>
  <dc:creator>Michael Cammert</dc:creator>
  <dc:description>Foliensatz zur BTW 2005</dc:description>
  <cp:keywords>Join Datentröme Sortierung</cp:keywords>
  <dc:language>en-US</dc:language>
  <cp:lastModifiedBy>FB Mathematik &amp; Informatik</cp:lastModifiedBy>
  <dcterms:modified xsi:type="dcterms:W3CDTF">2005-03-09T16:22:11Z</dcterms:modified>
  <cp:revision>486</cp:revision>
  <dc:subject>Sortierbasierte Joins über Datenströmen</dc:subject>
  <dc:title>Sortierbasierte Joins über Datenström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36518409</vt:r8>
  </property>
</Properties>
</file>